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CA90-4462-4B0A-AEAD-3A449C44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E8BE-6266-4EE3-9508-52C48A988D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56DA-59E5-4095-9BE8-5D1328CC10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3FE-7046-4787-9257-C5865AF6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2C1-5A79-4A74-9A57-568EF209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57E-BF12-407E-A2EA-C6AE3388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F4A-22F7-4D0E-92A3-51B29D95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5121-FDD9-4897-B89E-2DAD080C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018B-24C0-438A-B12A-EE83B6C0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F609-7EF9-476D-9601-99CCBAA4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565E-9E70-4884-B57C-652FD062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637B-E8D2-4528-B476-F878E66F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199B-C7BD-489D-A295-AA444787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4746-63C8-4C17-B592-89BEEEDF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D3F-EEA8-45BE-B1C3-682A64CA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13CE-F857-499A-9049-8A0B503B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AAA4-C5D0-4EBA-9453-C1153E9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C7B6-4038-4721-B2E0-B7936EA8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7399-7E47-466B-A621-1964BE26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CAFB-404E-476C-AB56-79C66A02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5DF-D54A-4B02-819A-1E2769C3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B4A-0F22-4A3D-BB91-0766BFF3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131-C963-40DD-A221-EEEB0FE8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F90-7D21-4FE6-A6BB-D5E02AD1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557-67EF-44B7-815D-6538775D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F5B-06D3-4E26-88B9-CBCCDC0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B7F-6BAD-4D5A-81C5-90CE0B17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b0ccb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b0ccb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72a37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4797-A9C8-4204-BCA7-24C6AD0DBA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b0ccb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b0ccb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72a37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25CF-BB6B-4868-AF6E-A48EBB8368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hs-pa.org/assets/adeptiv/upload/attach/deed-of-trust.pdf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ersheypark.com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pennstatehershey.org/web/guest/home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ahoomaps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etstate.com/states/peop/people/pa_msh.htm" TargetMode="External"/><Relationship Id="rId2" Type="http://schemas.openxmlformats.org/officeDocument/2006/relationships/hyperlink" Target="http://www.nndb.com/people/969/000160489/bibliography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hyperlink" Target="http://www.netstate.com/states/peop/people/pa_msh.htm" TargetMode="External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hyperlink" Target="http://www.hersheys.com/discover/milton/father.asp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hersheys.com/discover/milton/apprentice.asp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hersheys.com/discover/milton/early_attempts.asp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ersheys.com/discover/tour_video.asp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xplorepahistory.com/images/ExplorePAHistory-a0k7l8-a_349.jp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hehersheycompany.com/ir/reports.asp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pics4.city-data.com/cpicc/cfiles29417.jpg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ersheys.com/discover/milton/wife.asp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hs-pa.org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he value of our good is not measured by what it does, but by the amount of good it does to the one concerned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781680" y="6248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© 2010 Nicole K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73915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AutoShape 19">
            <a:hlinkClick r:id="" action="ppaction://hlinkshowjump?jump=nextslide"/>
          </p:cNvPr>
          <p:cNvSpPr/>
          <p:nvPr/>
        </p:nvSpPr>
        <p:spPr>
          <a:xfrm>
            <a:off x="830592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WordArt 20"/>
          <p:cNvSpPr txBox="1"/>
          <p:nvPr/>
        </p:nvSpPr>
        <p:spPr>
          <a:xfrm>
            <a:off x="1905120" y="12952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Milton S. Hershey</a:t>
            </a:r>
            <a:endParaRPr b="1" lang="en-US" sz="115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Milton Hershey School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86" name="AutoShape 7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8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9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80880" y="1219320"/>
            <a:ext cx="830592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 u="sng">
                <a:solidFill>
                  <a:srgbClr val="000000"/>
                </a:solidFill>
                <a:uFillTx/>
                <a:latin typeface="Comic Sans MS"/>
              </a:rPr>
              <a:t>Deed of Trust to the School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 u="sng">
                <a:solidFill>
                  <a:srgbClr val="db5353"/>
                </a:solidFill>
                <a:uFillTx/>
                <a:latin typeface="Comic Sans MS"/>
                <a:hlinkClick r:id="rId1"/>
              </a:rPr>
              <a:t>http://www.mhs-pa.org/assets/adeptiv/upload/attach/deed-of-trust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8" descr="Milton &amp; Catherine Hershey"/>
          <p:cNvPicPr/>
          <p:nvPr/>
        </p:nvPicPr>
        <p:blipFill>
          <a:blip r:embed="rId2"/>
          <a:stretch/>
        </p:blipFill>
        <p:spPr>
          <a:xfrm>
            <a:off x="3048120" y="2514600"/>
            <a:ext cx="2666880" cy="3224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a55"/>
                </a:solidFill>
                <a:latin typeface="Comic Sans MS"/>
              </a:rPr>
              <a:t>Hershey Park Arena</a:t>
            </a:r>
            <a:endParaRPr b="0" lang="en-US" sz="28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b5353"/>
                </a:solidFill>
                <a:uFillTx/>
                <a:latin typeface="Comic Sans MS"/>
                <a:hlinkClick r:id="rId1"/>
              </a:rPr>
              <a:t>www.hersheypar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11" descr="http://rds.yahoo.com/_ylt=A0PDoS6hXNBMN38AQtejzbkF/SIG=124v2cjkg/EXP=1288810017/**http%3a/www.ewiharrisburg.org/Hershey%2520map.jpg"/>
          <p:cNvPicPr/>
          <p:nvPr/>
        </p:nvPicPr>
        <p:blipFill>
          <a:blip r:embed="rId2"/>
          <a:stretch/>
        </p:blipFill>
        <p:spPr>
          <a:xfrm>
            <a:off x="838080" y="2209680"/>
            <a:ext cx="7242120" cy="3657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a55"/>
                </a:solidFill>
                <a:latin typeface="Comic Sans MS"/>
              </a:rPr>
              <a:t>Penn State Milton Hershey Medical Center </a:t>
            </a:r>
            <a:r>
              <a:rPr b="0" lang="en-US" sz="2800" spc="-1" strike="noStrike">
                <a:solidFill>
                  <a:srgbClr val="676a55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98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ounded in 1963 through a gift from The Milton S. Hershey Found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9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Patient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spital Admissions * 26,73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censed Beds (effective August 31, 2009) 48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tient Days * 149,18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gical Procedures * 23,2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mergency Room Visits * 52,1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nic Visits * 820,542 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Health Care Profess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ysicians 65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rses 1,9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tal Staff 8,800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Graduate Medical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nical Residents and Fellows 5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http://www.hersheys.com/discover/milton/images/photo_legacy_medcenter.jpg"/>
          <p:cNvPicPr/>
          <p:nvPr/>
        </p:nvPicPr>
        <p:blipFill>
          <a:blip r:embed="rId1"/>
          <a:stretch/>
        </p:blipFill>
        <p:spPr>
          <a:xfrm>
            <a:off x="4724280" y="2057400"/>
            <a:ext cx="3400560" cy="25239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1"/>
          <p:cNvSpPr/>
          <p:nvPr/>
        </p:nvSpPr>
        <p:spPr>
          <a:xfrm>
            <a:off x="4267080" y="4648320"/>
            <a:ext cx="5410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b5353"/>
                </a:solidFill>
                <a:uFillTx/>
                <a:latin typeface="Comic Sans MS"/>
                <a:hlinkClick r:id="rId2"/>
              </a:rPr>
              <a:t>http://www.pennstatehershey.org/web/guest/ho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Town of Hershey, PA  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fluences by Milton S. Hersh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9" descr="http://rds.yahoo.com/_ylt=A0PDoTFEW9BMqVMA4WyjzbkF/SIG=12ko2sbk5/EXP=1288809668/**http%3a/www.travelpod.com/cache/attr_maps/attractions-hershey.gif"/>
          <p:cNvPicPr/>
          <p:nvPr/>
        </p:nvPicPr>
        <p:blipFill>
          <a:blip r:embed="rId1"/>
          <a:stretch/>
        </p:blipFill>
        <p:spPr>
          <a:xfrm>
            <a:off x="4267080" y="1905120"/>
            <a:ext cx="3970440" cy="3970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990720" y="1905120"/>
            <a:ext cx="304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omic Sans MS"/>
              </a:rPr>
              <a:t>On this map, each little balloon represents a key Hershey location.  Look at the impact that Milton S. Hershey had on this tow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omic Sans MS"/>
              </a:rPr>
              <a:t>His vision was to “create a model town, with nice homes, parks, transportation, and recreational facilities.”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omic Sans MS"/>
              </a:rPr>
              <a:t>Would you say that he was successful???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5029200" y="1676520"/>
            <a:ext cx="3124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Comic Sans MS"/>
                <a:hlinkClick r:id="rId2"/>
              </a:rPr>
              <a:t>www.yahoomaps.co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Books for Kids</a:t>
            </a:r>
            <a:br>
              <a:rPr sz="1200"/>
            </a:br>
            <a:r>
              <a:rPr b="0" lang="en-US" sz="1200" spc="-1" strike="noStrike" u="sng">
                <a:solidFill>
                  <a:srgbClr val="db5353"/>
                </a:solidFill>
                <a:uFillTx/>
                <a:latin typeface="Comic Sans MS"/>
                <a:hlinkClick r:id="rId1"/>
              </a:rPr>
              <a:t>http://www.netstate.com/states/peop/people/pa_msh.htm</a:t>
            </a:r>
            <a:br>
              <a:rPr sz="1200"/>
            </a:br>
            <a:endParaRPr b="0" lang="en-US" sz="1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ocolate by Hershey: A Story About Milton S. Hershey” by Betty Burford &amp; Loren Chantland.  (ages 4-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lton Hershey: Chocolate King, Town Builder (Community Builders) by Charnan Simon          (ages 9-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Emperors of Chocolate:  Inside the Secret World of Hershey and Mars” by Joel Glenn Brenner (ages HS-adul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ink to other books about Milton S. Hershe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 u="sng">
                <a:solidFill>
                  <a:srgbClr val="db5353"/>
                </a:solidFill>
                <a:uFillTx/>
                <a:latin typeface="Arial"/>
                <a:hlinkClick r:id="rId2"/>
              </a:rPr>
              <a:t>http://www.nndb.com/people/969/000160489/bibliograph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Your Assignment:</a:t>
            </a: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ose a person who has impacted our local community.  Create a visual representation sharing information about this person.  Be sure to include primary sources in your information.  This can take the form of a poster, flyer, power point, or any other presentation form.  Please share the name of your person and the presentation method for your project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uesday, November 23, 2010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GOOD LUCK!!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Bibliography</a:t>
            </a: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ttp://www.hersheyhistory.org/milt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hersheyhistory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hersheyarchives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mhs-p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thehersheylegac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Arial"/>
              </a:rPr>
              <a:t>http://www.nndb.com/people/969/000160489/bibliograph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Arial"/>
              </a:rPr>
              <a:t>http://wn.com/hers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>
            <a:hlinkClick r:id="" action="ppaction://hlinkshowjump?jump=firstslide"/>
          </p:cNvPr>
          <p:cNvSpPr/>
          <p:nvPr/>
        </p:nvSpPr>
        <p:spPr>
          <a:xfrm>
            <a:off x="731520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omic Sans MS"/>
              </a:rPr>
              <a:t>Table of Contents</a:t>
            </a: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hildhood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Younger Lif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arlier Care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Hershey Chocolate C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Hershey Industrial School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Hershey Park Are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enn State Milton Hershey Medical Cen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Books for Ki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>
            <a:hlinkClick r:id="rId1" action="ppaction://hlinksldjump"/>
          </p:cNvPr>
          <p:cNvSpPr/>
          <p:nvPr/>
        </p:nvSpPr>
        <p:spPr>
          <a:xfrm>
            <a:off x="2971800" y="1066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AutoShape 10">
            <a:hlinkClick r:id="rId2" action="ppaction://hlinksldjump"/>
          </p:cNvPr>
          <p:cNvSpPr/>
          <p:nvPr/>
        </p:nvSpPr>
        <p:spPr>
          <a:xfrm>
            <a:off x="4572000" y="297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AutoShape 11">
            <a:hlinkClick r:id="rId3" action="ppaction://hlinksldjump"/>
          </p:cNvPr>
          <p:cNvSpPr/>
          <p:nvPr/>
        </p:nvSpPr>
        <p:spPr>
          <a:xfrm>
            <a:off x="5105520" y="358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AutoShape 12">
            <a:hlinkClick r:id="rId4" action="ppaction://hlinksldjump"/>
          </p:cNvPr>
          <p:cNvSpPr/>
          <p:nvPr/>
        </p:nvSpPr>
        <p:spPr>
          <a:xfrm>
            <a:off x="4419720" y="4191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AutoShape 13">
            <a:hlinkClick r:id="rId5" action="ppaction://hlinksldjump"/>
          </p:cNvPr>
          <p:cNvSpPr/>
          <p:nvPr/>
        </p:nvSpPr>
        <p:spPr>
          <a:xfrm>
            <a:off x="3657600" y="5486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AutoShape 14">
            <a:hlinkClick r:id="rId6" action="ppaction://hlinksldjump"/>
          </p:cNvPr>
          <p:cNvSpPr/>
          <p:nvPr/>
        </p:nvSpPr>
        <p:spPr>
          <a:xfrm>
            <a:off x="3657600" y="2362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AutoShape 15">
            <a:hlinkClick r:id="" action="ppaction://hlinkshowjump?jump=previousslide"/>
          </p:cNvPr>
          <p:cNvSpPr/>
          <p:nvPr/>
        </p:nvSpPr>
        <p:spPr>
          <a:xfrm>
            <a:off x="228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AutoShape 16">
            <a:hlinkClick r:id="" action="ppaction://hlinkshowjump?jump=nextslide"/>
          </p:cNvPr>
          <p:cNvSpPr/>
          <p:nvPr/>
        </p:nvSpPr>
        <p:spPr>
          <a:xfrm>
            <a:off x="8229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AutoShape 17">
            <a:hlinkClick r:id="rId7" action="ppaction://hlinksldjump"/>
          </p:cNvPr>
          <p:cNvSpPr/>
          <p:nvPr/>
        </p:nvSpPr>
        <p:spPr>
          <a:xfrm>
            <a:off x="3276720" y="1676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21" descr="Milton Snavely Hershey"/>
          <p:cNvPicPr/>
          <p:nvPr/>
        </p:nvPicPr>
        <p:blipFill>
          <a:blip r:embed="rId8"/>
          <a:stretch/>
        </p:blipFill>
        <p:spPr>
          <a:xfrm>
            <a:off x="5943600" y="609480"/>
            <a:ext cx="2206800" cy="324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"/>
          <p:cNvPicPr/>
          <p:nvPr/>
        </p:nvPicPr>
        <p:blipFill>
          <a:blip r:embed="rId9"/>
          <a:stretch/>
        </p:blipFill>
        <p:spPr>
          <a:xfrm>
            <a:off x="533520" y="114300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"/>
          <p:cNvPicPr/>
          <p:nvPr/>
        </p:nvPicPr>
        <p:blipFill>
          <a:blip r:embed="rId10"/>
          <a:stretch/>
        </p:blipFill>
        <p:spPr>
          <a:xfrm>
            <a:off x="533520" y="1752480"/>
            <a:ext cx="960480" cy="3603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0"/>
          <p:cNvSpPr/>
          <p:nvPr/>
        </p:nvSpPr>
        <p:spPr>
          <a:xfrm>
            <a:off x="5638680" y="3886200"/>
            <a:ext cx="350532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900" spc="-1" strike="noStrike" u="sng">
                <a:solidFill>
                  <a:srgbClr val="db5353"/>
                </a:solidFill>
                <a:uFillTx/>
                <a:latin typeface="Comic Sans MS"/>
                <a:hlinkClick r:id="rId11"/>
              </a:rPr>
              <a:t>http://www.netstate.com/states/peop/people/pa_msh.htm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22" descr=""/>
          <p:cNvPicPr/>
          <p:nvPr/>
        </p:nvPicPr>
        <p:blipFill>
          <a:blip r:embed="rId12"/>
          <a:stretch/>
        </p:blipFill>
        <p:spPr>
          <a:xfrm>
            <a:off x="533520" y="236232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"/>
          <p:cNvPicPr/>
          <p:nvPr/>
        </p:nvPicPr>
        <p:blipFill>
          <a:blip r:embed="rId13"/>
          <a:stretch/>
        </p:blipFill>
        <p:spPr>
          <a:xfrm>
            <a:off x="533520" y="297180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"/>
          <p:cNvPicPr/>
          <p:nvPr/>
        </p:nvPicPr>
        <p:blipFill>
          <a:blip r:embed="rId14"/>
          <a:stretch/>
        </p:blipFill>
        <p:spPr>
          <a:xfrm>
            <a:off x="533520" y="487692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"/>
          <p:cNvPicPr/>
          <p:nvPr/>
        </p:nvPicPr>
        <p:blipFill>
          <a:blip r:embed="rId15"/>
          <a:stretch/>
        </p:blipFill>
        <p:spPr>
          <a:xfrm>
            <a:off x="533520" y="426708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"/>
          <p:cNvPicPr/>
          <p:nvPr/>
        </p:nvPicPr>
        <p:blipFill>
          <a:blip r:embed="rId16"/>
          <a:stretch/>
        </p:blipFill>
        <p:spPr>
          <a:xfrm>
            <a:off x="533520" y="365760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"/>
          <p:cNvPicPr/>
          <p:nvPr/>
        </p:nvPicPr>
        <p:blipFill>
          <a:blip r:embed="rId17"/>
          <a:stretch/>
        </p:blipFill>
        <p:spPr>
          <a:xfrm>
            <a:off x="533520" y="5486400"/>
            <a:ext cx="960480" cy="3603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2">
            <a:hlinkClick r:id="rId18" action="ppaction://hlinksldjump"/>
          </p:cNvPr>
          <p:cNvSpPr/>
          <p:nvPr/>
        </p:nvSpPr>
        <p:spPr>
          <a:xfrm>
            <a:off x="7238880" y="4876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Childhood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rn on September 13, 185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s were Fannie and Henry Hers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rn on Hershey Family Homestead built by his grand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one sibling, Serina, who was born in 1862 (died at age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nded 7 different schools &amp; only went through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 14, became an apprentice at a printing 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2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"/>
          <p:cNvPicPr/>
          <p:nvPr/>
        </p:nvPicPr>
        <p:blipFill>
          <a:blip r:embed="rId5"/>
          <a:stretch/>
        </p:blipFill>
        <p:spPr>
          <a:xfrm>
            <a:off x="457200" y="457200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"/>
          <p:cNvPicPr/>
          <p:nvPr/>
        </p:nvPicPr>
        <p:blipFill>
          <a:blip r:embed="rId6"/>
          <a:stretch/>
        </p:blipFill>
        <p:spPr>
          <a:xfrm>
            <a:off x="457200" y="533412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http://www.hersheys.com/discover/milton/images/photo_early_mother.jpg"/>
          <p:cNvPicPr/>
          <p:nvPr/>
        </p:nvPicPr>
        <p:blipFill>
          <a:blip r:embed="rId7"/>
          <a:stretch/>
        </p:blipFill>
        <p:spPr>
          <a:xfrm>
            <a:off x="5257800" y="380880"/>
            <a:ext cx="1447920" cy="1074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http://www.hersheys.com/discover/milton/images/photo_early_father.jpg"/>
          <p:cNvPicPr/>
          <p:nvPr/>
        </p:nvPicPr>
        <p:blipFill>
          <a:blip r:embed="rId8"/>
          <a:stretch/>
        </p:blipFill>
        <p:spPr>
          <a:xfrm>
            <a:off x="6858000" y="380880"/>
            <a:ext cx="1447920" cy="107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0"/>
          <p:cNvSpPr/>
          <p:nvPr/>
        </p:nvSpPr>
        <p:spPr>
          <a:xfrm>
            <a:off x="5181480" y="1523880"/>
            <a:ext cx="41911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db5353"/>
                </a:solidFill>
                <a:uFillTx/>
                <a:latin typeface="Comic Sans MS"/>
                <a:hlinkClick r:id="rId9"/>
              </a:rPr>
              <a:t>http://www.hersheys.com/discover/milton/father.asp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Younger Life 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872, Milton became an apprentice at a Lancaster confectionery shop owned by Joseph Royer.  Milton believed he found his future and started his own candy business at the age of 19 in Philadelphia, P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fortunately, he was forced to declare bankruptcy.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AutoShape 8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AutoShape 9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9" descr="http://www.hersheys.com/discover/milton/images/photo_early_apprenticeships.jpg"/>
          <p:cNvPicPr/>
          <p:nvPr/>
        </p:nvPicPr>
        <p:blipFill>
          <a:blip r:embed="rId1"/>
          <a:stretch/>
        </p:blipFill>
        <p:spPr>
          <a:xfrm>
            <a:off x="5334120" y="3733920"/>
            <a:ext cx="2819160" cy="2092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838080" y="4572000"/>
            <a:ext cx="4343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5353"/>
                </a:solidFill>
                <a:uFillTx/>
                <a:latin typeface="Comic Sans MS"/>
                <a:hlinkClick r:id="rId2"/>
              </a:rPr>
              <a:t>http://www.hersheys.com/discover/milton/apprentice.as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Earlier Careers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2a37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selling his shop in Philadelphia, he moved to Denver, Colorado.  Here he learned how to make carame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2a37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 later moved from Denver and tried to establish himself in Chicago and New York, but found defeat in both plac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2a37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1883, he returned to Lancaster, PA and set up a candy business that specialized in producing caramel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2a37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1893, attended World’s Fair in Chicago. 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 purchased chocolate-making machinery from a        German manufactur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9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AutoShape 10">
            <a:hlinkClick r:id="" action="ppaction://hlinkshowjump?jump=nextslide"/>
          </p:cNvPr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0" descr="http://www.hersheys.com/discover/milton/images/photo_entrepr_attempts.jpg"/>
          <p:cNvPicPr/>
          <p:nvPr/>
        </p:nvPicPr>
        <p:blipFill>
          <a:blip r:embed="rId1"/>
          <a:stretch/>
        </p:blipFill>
        <p:spPr>
          <a:xfrm>
            <a:off x="6529320" y="0"/>
            <a:ext cx="1951200" cy="14479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9"/>
          <p:cNvSpPr/>
          <p:nvPr/>
        </p:nvSpPr>
        <p:spPr>
          <a:xfrm>
            <a:off x="2743200" y="5562720"/>
            <a:ext cx="4572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db5353"/>
                </a:solidFill>
                <a:uFillTx/>
                <a:latin typeface="Comic Sans MS"/>
                <a:hlinkClick r:id="rId2"/>
              </a:rPr>
              <a:t>http://www.hersheys.com/discover/milton/early_attempts.asp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12" descr="http://www.hersheys.com/discover/milton/images/photo_entrepr_caramelco.jpg"/>
          <p:cNvPicPr/>
          <p:nvPr/>
        </p:nvPicPr>
        <p:blipFill>
          <a:blip r:embed="rId3"/>
          <a:stretch/>
        </p:blipFill>
        <p:spPr>
          <a:xfrm>
            <a:off x="7010280" y="3733920"/>
            <a:ext cx="1744920" cy="12952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6902280" y="5105520"/>
            <a:ext cx="224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Lancaster Caramel Company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Hershey Chocolate Company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pened the Hershey Chocolate Factory in 1894 as an arm of the Lancaster Caramel Company.  Sold the caramel portion in 1900 for 1 million dollars.  In 1903, he purchased 1,200 acres of land near his birthplace and focused on mass-producing his milk chocolate products.  Hershey’s Chocolate Factory is founded and successful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0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21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22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3657600" y="3733920"/>
            <a:ext cx="510552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7e56"/>
                </a:solidFill>
                <a:latin typeface="Comic Sans MS"/>
              </a:rPr>
              <a:t>Click here for a tour of Hershey’s Chocolate Factory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5353"/>
                </a:solidFill>
                <a:uFillTx/>
                <a:latin typeface="Comic Sans MS"/>
                <a:hlinkClick r:id="rId1"/>
              </a:rPr>
              <a:t>http://www.hersheys.com/discover/tour_video.as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9" descr="http://rds.yahoo.com/_ylt=A0PDoTC0ZdBMF1cAnLijzbkF/SIG=12oug5vol/EXP=1288812340/**http%3a/explorepahistory.com/images/ExplorePAHistory-a0k7l8-a_349.jpg"/>
          <p:cNvPicPr/>
          <p:nvPr/>
        </p:nvPicPr>
        <p:blipFill>
          <a:blip r:embed="rId2"/>
          <a:stretch/>
        </p:blipFill>
        <p:spPr>
          <a:xfrm>
            <a:off x="685800" y="3430440"/>
            <a:ext cx="2590920" cy="21164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8"/>
          <p:cNvSpPr/>
          <p:nvPr/>
        </p:nvSpPr>
        <p:spPr>
          <a:xfrm>
            <a:off x="609480" y="5562720"/>
            <a:ext cx="5791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5353"/>
                </a:solidFill>
                <a:uFillTx/>
                <a:latin typeface="Comic Sans MS"/>
                <a:hlinkClick r:id="rId3"/>
              </a:rPr>
              <a:t>http://explorepahistory.com/images/ExplorePAHistory-a0k7l8-a_349.jp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Hershey-The-Great-American-Chocolate-Bar.mp3" descr=""/>
          <p:cNvPicPr/>
          <p:nvPr/>
        </p:nvPicPr>
        <p:blipFill>
          <a:blip r:embed="rId4"/>
          <a:stretch/>
        </p:blipFill>
        <p:spPr>
          <a:xfrm>
            <a:off x="78487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114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Hershey Chocolate Company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nual Repor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b5353"/>
                </a:solidFill>
                <a:uFillTx/>
                <a:latin typeface="Arial"/>
                <a:hlinkClick r:id="rId1"/>
              </a:rPr>
              <a:t>http://www.thehersheycompany.com/ir/reports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8" descr="http://rds.yahoo.com/_ylt=A0PDoX2OZdBMYV4AlOGjzbkF/SIG=124kq80cf/EXP=1288812302/**http%3a/pics4.city-data.com/cpicc/cfiles29417.jpg"/>
          <p:cNvPicPr/>
          <p:nvPr/>
        </p:nvPicPr>
        <p:blipFill>
          <a:blip r:embed="rId2"/>
          <a:stretch/>
        </p:blipFill>
        <p:spPr>
          <a:xfrm>
            <a:off x="2590920" y="26668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"/>
          <p:cNvSpPr/>
          <p:nvPr/>
        </p:nvSpPr>
        <p:spPr>
          <a:xfrm>
            <a:off x="1981080" y="5562720"/>
            <a:ext cx="6553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b5353"/>
                </a:solidFill>
                <a:uFillTx/>
                <a:latin typeface="Comic Sans MS"/>
                <a:hlinkClick r:id="rId3"/>
              </a:rPr>
              <a:t>http://pics4.city-data.com/cpicc/cfiles29417.jp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Hershey Industrial School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 a trip to Jamestown, NY, he met an attractive, 26-year-old woman named Catherine Sweeney, or “Kitty” as she was called by family and friends.  She captured Milton Hershey’s heart and they were married on May 25, 189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y had a great marriage.  They traveled and spent many hours with each other.  However, they never had children of their own.  Instead they opened a boarding school for orphan boys and came to think of the boys as their fam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 November 15, 1909, they signed the Deed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ust, establishing the Hershey Industr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hoo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2286000" y="5410080"/>
            <a:ext cx="5181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b5353"/>
                </a:solidFill>
                <a:uFillTx/>
                <a:latin typeface="Comic Sans MS"/>
                <a:hlinkClick r:id="rId1"/>
              </a:rPr>
              <a:t>http://www.hersheys.com/discover/milton/wife.as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10" descr="http://www.hersheys.com/discover/milton/images/photo_early_wife.jpg"/>
          <p:cNvPicPr/>
          <p:nvPr/>
        </p:nvPicPr>
        <p:blipFill>
          <a:blip r:embed="rId2"/>
          <a:stretch/>
        </p:blipFill>
        <p:spPr>
          <a:xfrm>
            <a:off x="7467480" y="380880"/>
            <a:ext cx="102708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http://www.hersheys.com/discover/milton/images/milton_poto.jpg"/>
          <p:cNvPicPr/>
          <p:nvPr/>
        </p:nvPicPr>
        <p:blipFill>
          <a:blip r:embed="rId3"/>
          <a:stretch/>
        </p:blipFill>
        <p:spPr>
          <a:xfrm>
            <a:off x="4648320" y="2819520"/>
            <a:ext cx="3400200" cy="25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Comic Sans MS"/>
              </a:rPr>
              <a:t>Now known as </a:t>
            </a: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Milton Hershey School </a:t>
            </a: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 </a:t>
            </a: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67080" y="8380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b5353"/>
                </a:solidFill>
                <a:uFillTx/>
                <a:latin typeface="Arial"/>
                <a:hlinkClick r:id="rId1"/>
              </a:rPr>
              <a:t>http://www.mhs-pa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Aerial view of the Milton Hershey School® Campus"/>
          <p:cNvPicPr/>
          <p:nvPr/>
        </p:nvPicPr>
        <p:blipFill>
          <a:blip r:embed="rId2"/>
          <a:stretch/>
        </p:blipFill>
        <p:spPr>
          <a:xfrm>
            <a:off x="2133720" y="1371600"/>
            <a:ext cx="4286160" cy="2257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2971800" y="3733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*Renamed in 1951**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-152280" y="4267080"/>
            <a:ext cx="9296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lton Hershey School is a cost-free, private, coeducational home and school fo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ldren. The School is funded by a trust established by Milton S. Hershey and hi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fe Catherine. Milton Hershey School offers a positive, structured home lif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ear-round and an excellent pre-kindergarten through 12th grade education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ir vision focuses on building character and providing children with the skill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cessary to be successful in all aspects of lif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12:58:39Z</dcterms:created>
  <dc:creator>Administrator</dc:creator>
  <dc:description/>
  <dc:language>en-US</dc:language>
  <cp:lastModifiedBy>Nicole</cp:lastModifiedBy>
  <dcterms:modified xsi:type="dcterms:W3CDTF">2010-11-03T01:57:03Z</dcterms:modified>
  <cp:revision>101</cp:revision>
  <dc:subject/>
  <dc:title>Pennsylvania</dc:title>
</cp:coreProperties>
</file>